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35.jpeg" ContentType="image/jpeg"/>
  <Override PartName="/ppt/media/image10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57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8.jpeg" ContentType="image/jpeg"/>
  <Override PartName="/ppt/media/image54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8.jpeg" ContentType="image/jpeg"/>
  <Override PartName="/ppt/media/image33.jpeg" ContentType="image/jpeg"/>
  <Override PartName="/ppt/media/image32.png" ContentType="image/png"/>
  <Override PartName="/ppt/media/image3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5A076F-9BE3-46B1-9C6C-6BB7FE047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59F049-5825-4E9C-AC71-736636890C2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D76309-138D-4EB1-BE2D-0226B782E3E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EDB93C-5444-42D2-BC37-45581B50FED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74675F-1CBB-4724-BFBC-92A13F1B26D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6FCF8F-10EA-4472-8093-844F51A66BC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77A63C-2640-4EDB-9922-DEF8C8E52A9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067553-28A5-45BE-B25B-4B6363CEC2B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82221B-3E67-4A40-BFB3-A3B588F708F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E761C2-17B8-42A6-A47A-B0F60C7675D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E81FF8-5C40-4B06-8F7A-4A6C35B22E6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A843C8-E0C2-438B-B8AC-1BA332A5BDC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47D8EC-5CC9-4F32-B3A9-579EB995858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351B53-4148-4BA0-9746-FEFD97ECC9E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6DF3F1-F652-46C2-8911-3E1E62B68E7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26C8EF-F109-4177-BDA2-832836DD4F4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9352D3-93C1-41D4-A053-655B69B263A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3AA294-F1B9-400D-AF06-A81222426CE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E5C5CB-23C2-44FA-879D-E5BB34B0D6F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A19164-1CE8-45EF-9AC0-218B0E3F56B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CBBDED-FF0B-4165-B9C6-C4E0BBB503E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F24748-0109-4C64-890B-CCC5820EA05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E2370C-4EBE-4418-8138-76AB0BD12B2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416890-1D2B-480F-A6C9-6461F7DA348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0F7EEC-AB51-461A-AA4C-DB5B77AA1B6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93FF26-2902-4CE5-844F-1FF6583884A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060269-CAA4-4AA8-95B3-3002853036B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08E85B-5491-498F-8BCF-695D1C53F1E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A9D528-8301-46EF-9368-A3C73D2BC4D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5CED3A-CBAD-4559-9017-23BDE33F6E5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8BED1C-5F9B-4A46-9289-9EAA1113F45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C95F1C-88BC-4743-9CB9-9F245A87C1E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CBB674-3D67-46C1-A544-DDDC423C53C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8316B8-D9C6-4D42-9FF8-60466DB157C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952D4C-308B-4EDD-B3B7-BA56CDB8EFA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BB5F29-87F6-48BA-A0FC-210FFF76BAB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4F80F4-C3FC-402D-A28D-B8E630C5BA2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CBA1A3-C1FC-43DC-9BA2-91FADDC8B39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6FE82D-3F9F-4018-B8F8-22546219CCC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D6CFDB-62CD-4225-97FA-BD690E0F474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B7835A-93B1-42D6-B338-8F41789383D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1481CC-7EAB-4CDC-A070-98FD4886127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9903DF-9424-4EA0-B313-9D2FAB45DA3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5A10F9-FCE2-4AE6-8B32-B3425C27072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05938C-42E1-46FB-B0C9-EBFB202CE78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4A3A73-A932-45D3-9F3A-56667D51894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95D3D3-22A6-41C5-B599-16363D9FE25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2FE418-9105-4EE8-A884-AA23187ED8E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3EB547-B983-4DAB-976D-7845A1B429C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F3EEDA-5D12-4E33-A522-6F46B4658A5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0AAAB8-BFAE-4185-AE9B-7D800078015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E13ABC-F647-4AD0-8027-48AD4763871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D39D06-9070-4D9A-9F82-710E5905113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F1EFBF-0DB4-46B2-87C5-80846B95D9F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BAD109-5AF8-4889-9B7A-7D0407637D8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071F18-7618-48F9-BE9F-159F58C8BC4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E7D796-E476-414B-A054-5E8A30CC323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CE3A-9C7B-4551-BB3B-D125FB16D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7E95A-ABF1-4050-A178-AACFF9B17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11279-2871-406D-9B3D-4723AD51D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F30E-912E-4A0C-B897-1250394AF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0F17E-857E-4443-99B5-9D078892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9CF15-5213-46CD-9AA5-1DD36A30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70C5A-9A83-4BE8-9B72-118F4D8B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BDFD8-4A15-42AF-B39C-E0443E25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AD7B5-ED44-434D-9184-25C8EA23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7B283-553A-463B-94C5-B050150E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247E1-6057-4553-8A38-E1A053F8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0464-FE22-49D6-A2F3-4B6515015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8D668-7724-43D2-AC03-97620BF9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EC9B2-9400-499F-A78E-22986906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8A16F-5B04-4C81-8BE9-CFF0D0D8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99F64-87CC-454D-A1BF-381493BC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1CA70-5151-4DFA-A929-A38DED2B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E65F-67A0-4C63-92DF-43ADE7DC1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05C3-85B3-45B8-A5C7-D098E10FE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3A205-17F6-4187-88F3-CA07E7058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B924-5C5F-4B61-AFA0-CBC9E415D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9D54-1C66-4A9D-9D7D-236876ACF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9D65-D793-4189-B599-E8608BA09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CDCB9-0AD2-417E-B70B-E7DCC4C3A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4384-CFA6-46DF-B6E5-B7F3A02FC96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1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1504-D71E-45C1-8548-F23C016C7ED6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A711-7236-4FDB-AE76-B15CD302F87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01D2-6E63-44DE-8C8E-26A59F8DBF0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08000" y="549360"/>
            <a:ext cx="4248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Маларија/Malar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1" descr="eigencyclus"/>
          <p:cNvPicPr/>
          <p:nvPr/>
        </p:nvPicPr>
        <p:blipFill>
          <a:blip r:embed="rId1"/>
          <a:stretch/>
        </p:blipFill>
        <p:spPr>
          <a:xfrm>
            <a:off x="4356000" y="333360"/>
            <a:ext cx="46926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6764-FFC6-4E6E-B7BC-01369D6CF62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387440" y="764280"/>
            <a:ext cx="276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68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пидем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900000" y="1916280"/>
            <a:ext cx="8244000" cy="49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о је најважнија паразитоза људ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распрострањена у 103 земљ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од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које годишње оболева око милијарду људи, а умире више од 2 милион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рбиј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ема аутохтоних случајева маларије (последњи случај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964. годин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Југославиј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), али се јављају импортовани случајев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 настанак и одржавање маларије неопходна су три фактора: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разит, преносилац и чове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ред тога, неопходни су и други фактори: атмосферски, климатски,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еренски, 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ја је најраспрострањенија у тропским и суптропским крајевим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где има ендемско-епидемијски карактер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7732-F32A-46FF-B942-5717E3C6A64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116000" y="1197000"/>
            <a:ext cx="777708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 најчешће износи 2 до 3 недељ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Општи симптоми инфек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очиње нагло са оптим симптомима инфекције: повишеном температуром, јаком главобољом, ретробулбарним болом, мијалгија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главобоља може бити праћена фотофобијом, менингизмом и сомноленциј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 четвртине болесника могу се јавити повраћање и проли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F55C-306B-4E16-A90F-425FB5515BA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116000" y="476280"/>
            <a:ext cx="755964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Пнеумон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1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 половине болесника са Q-грозницом уз опште симптоме инфекције јавља се атипична пнеумон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1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рајем прве недеље болести појављује се сув, надражајни кашаљ, праћен диспнејом и пробадима у пределу грудног  коша; физикални налаз на плућим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је најчешће оскудан, а радиографски се откривају интерстицијски инфилтрати у плућ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Picture 3" descr="InfQThA46_7"/>
          <p:cNvPicPr/>
          <p:nvPr/>
        </p:nvPicPr>
        <p:blipFill>
          <a:blip r:embed="rId1"/>
          <a:stretch/>
        </p:blipFill>
        <p:spPr>
          <a:xfrm>
            <a:off x="1835280" y="3213000"/>
            <a:ext cx="571500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E7AE-12CD-4E12-95B5-B28D3BF049D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1187280" y="62064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Остали клинички облици Q-грозн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се може манифестовати  и другим клиничким манифестација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3" descr="Tabela Q"/>
          <p:cNvPicPr/>
          <p:nvPr/>
        </p:nvPicPr>
        <p:blipFill>
          <a:blip r:embed="rId1"/>
          <a:stretch/>
        </p:blipFill>
        <p:spPr>
          <a:xfrm>
            <a:off x="1476360" y="2060640"/>
            <a:ext cx="705636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11A3-0319-441D-9186-6FEDDEE4D39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1116000" y="1125360"/>
            <a:ext cx="77058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а слика (неспецифичн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пидемиолошки подаци (контакт са домаћим животињам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рвна слика (неспецифич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гзактна 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золација узрочника из крви, спутума, мокраће, ликвора и плеуралног изли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еролошке реакције (RVK, IIF, ELISA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F449-FF6C-46D5-96BC-6A027D458BD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1258920" y="1341360"/>
            <a:ext cx="763272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20000"/>
              </a:lnSpc>
              <a:spcBef>
                <a:spcPts val="1576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антибиотерапија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(тетрациклини, макролиди, хлорамфеникол, кинолони)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10-14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симптоматска терапи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6495-5DC2-4489-9D90-80018683594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3132000" y="278136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Comic Sans MS"/>
              </a:rPr>
              <a:t>Хвала на па</a:t>
            </a:r>
            <a:r>
              <a:rPr b="0" i="1" lang="sr-Latn-CS" sz="3600" spc="-1" strike="noStrike">
                <a:solidFill>
                  <a:srgbClr val="ffff00"/>
                </a:solidFill>
                <a:latin typeface="Comic Sans MS"/>
              </a:rPr>
              <a:t>жњ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7933-E2DD-4DEE-9E57-8F0C2D908EF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6" descr="malaria_risk_2003"/>
          <p:cNvPicPr/>
          <p:nvPr/>
        </p:nvPicPr>
        <p:blipFill>
          <a:blip r:embed="rId1"/>
          <a:stretch/>
        </p:blipFill>
        <p:spPr>
          <a:xfrm>
            <a:off x="539640" y="1125360"/>
            <a:ext cx="8280360" cy="5112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858240" y="40464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Географска дистрибуција малар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09A6-AD38-43BB-B3BD-EABD7B59FA8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8" descr="picendem"/>
          <p:cNvPicPr/>
          <p:nvPr/>
        </p:nvPicPr>
        <p:blipFill>
          <a:blip r:embed="rId1"/>
          <a:stretch/>
        </p:blipFill>
        <p:spPr>
          <a:xfrm>
            <a:off x="2916360" y="907920"/>
            <a:ext cx="52099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C233-75DB-4C2E-9110-1D29D4A69FB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403280" y="764280"/>
            <a:ext cx="2228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Патогене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971640" y="1844640"/>
            <a:ext cx="8064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66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тогенеза болести поклапа се са асексуалним циклусом развој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разита у чове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66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сновни патогенетски механизм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емолиза еритроцит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оксично оштећење различитих тки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слобађање цитокина (TNF-</a:t>
            </a: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INF-</a:t>
            </a: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...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итоадхеренција и феномен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“розета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кроваскуларне (капиларне) оклузије у различитим орган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D200-F429-4360-88F9-B2D6896130D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332000" y="549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692360" y="2060640"/>
            <a:ext cx="60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Инкубација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10-12 дана (8-23 да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210000"/>
              </a:lnSpc>
              <a:buClr>
                <a:srgbClr val="ffff00"/>
              </a:buClr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Стадијум примарних маларичних нап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210000"/>
              </a:lnSpc>
              <a:buClr>
                <a:srgbClr val="ffff00"/>
              </a:buClr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Стадијум латен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210000"/>
              </a:lnSpc>
              <a:buClr>
                <a:srgbClr val="ffff00"/>
              </a:buClr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Стадијум рециди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EB2F-04DA-4AFF-B935-2A822585CC6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258920" y="47628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 СТАДИЈУМ ПРИМАРНИХ МАЛАРИЧНИХ НАПА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900000" y="981000"/>
            <a:ext cx="824400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нвазивни стадијум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 температура до 40ºC, главобоља, малаксалост, болови у мишићима, 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чни напади пролазе кроз три стадијума: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дрхтавиц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хиперпирексиј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презнојавања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ларичн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апади трају 5-10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маларије терцијане и овале маларични напади се понављају сваких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48 часова, код маларије квартане на свака 72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код маларије тропик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ваких 24-48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нелечене маларије терцијане и овале маларични напади се понављај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оком 2-4 недеље, код маларије квартане током 1-2 месеца, а зати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понтано престај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а сваким новим ма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ричним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ападом анемија прогредира, слезина се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ве виш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већава, болесници се све више исцрпљуј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35B6-07FF-4BFC-B394-F4B4EB253F7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00000" y="620640"/>
            <a:ext cx="82440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У клиничко-лабораторијске знаке тешке маларије убрајају с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исока паразитемија (&gt;5% инфицираних еритроцит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иперпирексија (телесна температура &gt; 40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Знаци афекције нервног система (“церебрална маларија”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немија (хематокрит &lt; 20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ремећај гликорегулације (хипогликемија &lt; 2,2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mol/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Спонтана крварењ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цидоза (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&lt; 7,25; бикарбонати &lt; 15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mol/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убрежна инсуфицијенција (креатинин &gt; 265 </a:t>
            </a:r>
            <a:r>
              <a:rPr b="0" i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ol/l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иуреза &lt; 400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ипербилирубинемија (билирубин &gt; 50 </a:t>
            </a:r>
            <a:r>
              <a:rPr b="0" i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ol/l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ардиоваскуларни колап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фекције плућа и/или плућни еде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олив и/или повраћање (што отежава оралну примену леков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E2CC-AA90-4630-AD44-563B68A3231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548360" y="83664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I ПЕРИОД ЛАТЕН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971640" y="2060640"/>
            <a:ext cx="8172360" cy="46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лечених болесника настаје услед уништења еритроцитне фазе 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звоју паразита, а код нелечених због развоја делимичног имуните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 овом периоду нема субјективних тегоба, у објективном налаз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оминира спленомегал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иод латенције код маларије тропике је кратак (1-6 недеља), док код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. терцијане и м. овале може да траје више недеља до више месец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3DC5-48DA-4C26-9ACC-57AEED7D8D4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551240" y="83664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II СТАДИЈУМ РЕЦИДИ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00000" y="1916280"/>
            <a:ext cx="813600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цидиви могу бити рани и кас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ни рецидиви могу да се јав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свих облика маларије; касни рецидиви, такође код свих осим м. тропик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цидиви се клинички презентују типичним маларичним нападима, који с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иодично понављају у одре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ном временском интервалу; једина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злика је што временом маларични напади у рецидиву постају блажи, а период између појединих рецидива све већ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м. терцијане, м. квартане и м. овале рецидиви настају због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гзоеритроцитне фазе у развоју паразита, а код м. тропике због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државања еритроцитне фаз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0BF5-BF66-4859-948D-BABF998979F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299960" y="765000"/>
            <a:ext cx="41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мпликације малариј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403280" y="2133720"/>
            <a:ext cx="482436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уптура слезине или торз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бачај или превремени порођај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рномокраћна грозни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C874-3E26-4267-A47B-B5C9D066C73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042920" y="1989000"/>
            <a:ext cx="763272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Људски род 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има три велика непријатеља: грозницу, глад и рат; убедљиво највећа, убедљиво најстрашнија од њих је грозница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William Os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3E14-6870-4859-BACA-527C2B88FFD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03280" y="692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403280" y="2133720"/>
            <a:ext cx="6985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ичк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слик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пидемиолошки подац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аборатор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јск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анализ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брзана S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ормоцитна, нормохромна анем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ормалан број леукоцита (ретко леукоцитоз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ромбоцитопен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ко повишена активност трансамин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82B1-EBB6-4484-AE5D-250D07E9320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187280" y="836640"/>
            <a:ext cx="7345440" cy="49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Егзактна дијагноза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ентификациј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плазмодијума у крви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размаз или густа кап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Детекција паразитног антигена (флуоресцентна микроскоп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еролошке анализ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C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5" descr="malaria82"/>
          <p:cNvPicPr/>
          <p:nvPr/>
        </p:nvPicPr>
        <p:blipFill>
          <a:blip r:embed="rId1"/>
          <a:stretch/>
        </p:blipFill>
        <p:spPr>
          <a:xfrm>
            <a:off x="6156360" y="1341360"/>
            <a:ext cx="216072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3F19-CA5A-4FF5-9136-15C585ED7C1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193400" y="3333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826920" y="1484280"/>
            <a:ext cx="77774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сновни циљ лечења је прекид акутног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чног напада и превенција рециди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анас располажемо великим бројем антималаричних средстава која делују на различите развојне облике плазмодију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4360" y="3573360"/>
          <a:ext cx="8137440" cy="2857680"/>
        </p:xfrm>
        <a:graphic>
          <a:graphicData uri="http://schemas.openxmlformats.org/drawingml/2006/table">
            <a:tbl>
              <a:tblPr/>
              <a:tblGrid>
                <a:gridCol w="2735280"/>
                <a:gridCol w="5402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нолонски дерив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in, kinidin, hlorokin, meflokin, halofantrin, primak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темизински дерив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emizinin, artemetar, artesun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ифол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rimetamin, proguanil, hlorproguanil, trimetop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ибактеријски лек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traciklini, klindamicin, makrolidi, sulfonamid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восинтетисани нафтакинонски лек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ovak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193" name="Picture 99" descr="vol5-38p1-303-00"/>
          <p:cNvPicPr/>
          <p:nvPr/>
        </p:nvPicPr>
        <p:blipFill>
          <a:blip r:embed="rId1"/>
          <a:stretch/>
        </p:blipFill>
        <p:spPr>
          <a:xfrm>
            <a:off x="6300720" y="476280"/>
            <a:ext cx="264312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066320" y="8571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Хемиопрофилакса малар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Антималаричну профилаксу треба узимати 2 недеље пре одласка, за време боравка и 4 недеље по повратку из ендемичних краје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ОНА А (ендемска подручја у којима су плазмодијуми осетлљиви на хлороки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CHLOROQUINE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, таблете 300 mg, једна тбл.недељно, деца: 5 mg/кg телесне мас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Контраиндикације: преосетљивост на хлорокин, епилепсија, псорија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2A16-B383-4F8C-B816-6A14FC71B2F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-5790960" y="128160"/>
            <a:ext cx="20726280" cy="200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Inјекciоnа vакcinа prоtiv коlеrе, коri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ćеnа dо sкоrо, dаје nекоmplеtnu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tu која кrаtко trаје, lаžnu sigurnоst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i vеć dugо sе nе prеpоručuје. Nоvа оrаlnа vакcinа dаје dоbru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tu u trајаnju dо dvе gоdinе. I оvа vакcinа nе оbеzbеđuје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tu 100%, pа su оsnоvnе mеrе prеvеnciје (higiјеnе) bаzičnе u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ti оd оvе bоlеsti. Оvа vакcinа sе dаје u dvе dоzе sа rаzmакоm оd 10 dаnа, а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tа nаstаје nакоn 10 dаnа оd dаvаnjа drugе dоzе. Niјеdnа zеmljа nе zаhtеvа sеrtifiкаt о vакcinаciјi prоtiv коlеrе као uslоv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ulаzак u zеmlju.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ОНА Б (ендемска подручја у којима постоји резистенција плазмодијума на хлорокин)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CHLOROQUINE + PROGUANIL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, 100 mg 200 m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Једна комбинована таблета днев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Контраиндикације: преосетљивост на хлорокин и/или прогванил, инсуфиијенција јетре и бубрега, епилепсија, псорија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личина таблете није адекватна за особе са телесном тежином мањом од 50 к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зимати 1 дан пре одласка, све време боравка и 4 недеље након повратка из маларичног подручј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ОНА Ц (ендемска подручја у којима постоји висока резистенција plаzmоdiјum fаlcipаrumа на хлороки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MEFLOQUINE (Lariam),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таблете од 250 mg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јеdnа tаblеtа nеdеljn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Деца: 5 mg/кg телесне масе недељ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EC88-C129-4509-8135-2EB5E0E93B0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066320" y="713880"/>
            <a:ext cx="7543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Контраиндикације: тел.тежина испод 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g,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трудноћа, преосетљивост на мефлокин, неуропсихијатријски поремећаји (укључујући депресију), епилепсија, конвулзије, терапија мефлокином у претходне 4 недеље, не препоручује се особама чије занимање захтева фину координацију покрета и просторну оријентацију (пилоти, возачи..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Напомена: не узимати мефлокин унутар 12 сати од примене кинина и унутар 3 дана од апликације живих бактеријских вакцина (вакцина против трбушног тифуса и колере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Ампицилин и тетрациклин, уколико се примењују истовремено, могу повећати ниво мефлокина у кр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23A9-1C2B-4AD0-9B1E-437305192DB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66320" y="8571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ATOVAQUONE + PROGUANIL (Malarone)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, 250 mg 100 mg, једна комбинована таблета днев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Контраиндикације: осетљивост на састојке лека, тешка бубрежна инсифицијенција, телесна тежина мања од 11 к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Истовремена употреба рифампицина, рифабутина, метоклопрамида и тетрациклина, доводи до смањења концентрације маларона у плаз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зимати 1 дан пре поласка, све време боравка и 7 дана након повратка из маларичног подручј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B73D-2424-495A-B903-50F87B8585A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~PP4074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320" y="928440"/>
            <a:ext cx="75438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DOXYCYCLIN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, таблете од 100 mg, једна таблета днев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Контраиндикације: трудноћа и дојење, млађи од 8 година, преосетљивост на тетрациклине, дисфункција јет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помена: доксициклин повећава осетљивост коже на сунчеву светлост, па особе са осетљивом кожом треба да користе УВА заштиту и избегавају директно излагање сунчевој светл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зимати 1 дан пре одласка, све време боравка и 4 недеље по повратку из маларичног подручј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 случају да нисте у могућности да набавите препоручене лекове, као и за све друге информације везане за врсту и начин употребе антималаричних лекова, обратите се здравственој служби земље у којој се налази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A0DE-55F6-452E-B9C9-349BBE79D0D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C34A-ACD1-4EC9-8C3E-21D4D319F8A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5" descr="MalariaMap"/>
          <p:cNvPicPr/>
          <p:nvPr/>
        </p:nvPicPr>
        <p:blipFill>
          <a:blip r:embed="rId1"/>
          <a:stretch/>
        </p:blipFill>
        <p:spPr>
          <a:xfrm>
            <a:off x="1187280" y="765000"/>
            <a:ext cx="7344000" cy="540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6337-92AD-46FE-8DAF-ABAE412C5BA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79280" y="404640"/>
            <a:ext cx="5329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Амебијаза/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Amoebia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6" descr="Mikroorganismen"/>
          <p:cNvPicPr/>
          <p:nvPr/>
        </p:nvPicPr>
        <p:blipFill>
          <a:blip r:embed="rId1"/>
          <a:stretch/>
        </p:blipFill>
        <p:spPr>
          <a:xfrm>
            <a:off x="5508720" y="1557360"/>
            <a:ext cx="34430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77B6-2413-4997-BE42-CCFDC5D1105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47640" y="620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ефинициј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87280" y="1989000"/>
            <a:ext cx="7129800" cy="14925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Маларија је заразно обољење које изазивају четири врсте паразита из рода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Plasmodium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, а преносе је убодом комарци из рода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Anopheles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58920" y="4221000"/>
            <a:ext cx="734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инички се болест карактерише маларичним нападима (периодични напади грознице), анемијом и спленомегалијо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540A-C474-40E8-931D-DC851B9A400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438920" y="77796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332000" y="2565360"/>
            <a:ext cx="7200720" cy="2151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Амебијаза означава инфестацију организма протозоом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Entamoeba histolytica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 која се клинички испољава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широким спектром – од асимптоматске, преко амебног колитиса до инвазивних облика са стварањем апсцеса, пре свега у јет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2902-6D7C-42B0-8C24-23CBD6F82A5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403280" y="765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971640" y="1989000"/>
            <a:ext cx="792144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tamoeb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stolytic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је примарно паразит дебелог цре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јављује се у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истични обли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лазна форма (мину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истол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и облик (трофозоит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рофозит је патогени облик паразита (продукује протеолитичке ензим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7349-A5DD-4003-9521-B1100B32299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4" descr="ehistolytica2"/>
          <p:cNvPicPr/>
          <p:nvPr/>
        </p:nvPicPr>
        <p:blipFill>
          <a:blip r:embed="rId1"/>
          <a:stretch/>
        </p:blipFill>
        <p:spPr>
          <a:xfrm>
            <a:off x="1258920" y="1268280"/>
            <a:ext cx="2390760" cy="2467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enta3"/>
          <p:cNvPicPr/>
          <p:nvPr/>
        </p:nvPicPr>
        <p:blipFill>
          <a:blip r:embed="rId2"/>
          <a:stretch/>
        </p:blipFill>
        <p:spPr>
          <a:xfrm>
            <a:off x="4572000" y="1268280"/>
            <a:ext cx="3170160" cy="2400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enta6"/>
          <p:cNvPicPr/>
          <p:nvPr/>
        </p:nvPicPr>
        <p:blipFill>
          <a:blip r:embed="rId3"/>
          <a:stretch/>
        </p:blipFill>
        <p:spPr>
          <a:xfrm>
            <a:off x="2843280" y="3933720"/>
            <a:ext cx="3527280" cy="2268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7"/>
          <p:cNvSpPr/>
          <p:nvPr/>
        </p:nvSpPr>
        <p:spPr>
          <a:xfrm>
            <a:off x="1181880" y="476280"/>
            <a:ext cx="44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Цистични облик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Entamoebe histolytic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E924-C004-4612-8332-8818E2BFFD8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4" descr="E_histol_troph_drawA"/>
          <p:cNvPicPr/>
          <p:nvPr/>
        </p:nvPicPr>
        <p:blipFill>
          <a:blip r:embed="rId1"/>
          <a:srcRect l="8873" t="0" r="11118" b="0"/>
          <a:stretch/>
        </p:blipFill>
        <p:spPr>
          <a:xfrm>
            <a:off x="1042920" y="1700280"/>
            <a:ext cx="2708280" cy="3384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E_histol_troph_C"/>
          <p:cNvPicPr/>
          <p:nvPr/>
        </p:nvPicPr>
        <p:blipFill>
          <a:blip r:embed="rId2"/>
          <a:stretch/>
        </p:blipFill>
        <p:spPr>
          <a:xfrm>
            <a:off x="6732720" y="1700280"/>
            <a:ext cx="2079360" cy="33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E_histol_troph_D"/>
          <p:cNvPicPr/>
          <p:nvPr/>
        </p:nvPicPr>
        <p:blipFill>
          <a:blip r:embed="rId3"/>
          <a:stretch/>
        </p:blipFill>
        <p:spPr>
          <a:xfrm>
            <a:off x="4067280" y="1700280"/>
            <a:ext cx="2376360" cy="33843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7"/>
          <p:cNvSpPr/>
          <p:nvPr/>
        </p:nvSpPr>
        <p:spPr>
          <a:xfrm>
            <a:off x="1404000" y="836640"/>
            <a:ext cx="35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Хистолитички облик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trofozoit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3E36-32C2-4179-A51B-ED5B2FD61E7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90800" y="18900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971640" y="692280"/>
            <a:ext cx="7272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свету има око 500 милиона особа инфестираних амеб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ијаза је космополитско обољење, али је најзаступљенија у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ропским и суптропским крајеви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6" descr="amoebiasis1"/>
          <p:cNvPicPr/>
          <p:nvPr/>
        </p:nvPicPr>
        <p:blipFill>
          <a:blip r:embed="rId1"/>
          <a:stretch/>
        </p:blipFill>
        <p:spPr>
          <a:xfrm>
            <a:off x="971640" y="1844640"/>
            <a:ext cx="7345440" cy="36972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1042920" y="566100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бијаза је типична фекално-орална инфекциј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вор инфекције су болесник или амебоноша који столицом излучују цисте у спољну средину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овек се инфицира уношењем циста у органозму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љаве руке, вода, хран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CA95-1026-4DCB-8533-CF88097D14A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187280" y="18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788000" y="549360"/>
            <a:ext cx="4176720" cy="70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исте након ингестије, пролазе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желудац и танко црево, доспевају у дебело црево где под повољним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словима прелазе у трофозоит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хваљујући својим протеолитичким ферментим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цистеин-протеазе)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могу да продру кроз цревну слуз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ицу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у субмукози изазивају некротично-инфламаторне промене, што 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рајњој инстанци резултира стварање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лцерациј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езије код амебијазе обично с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окализоване на цекуму и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сцедентном колону, али су често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хваћени и ректум и сигм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ђе, трофозоити могу да продру и у крвне судове (цревног зида) и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ртним крвотоком у јетру, где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формирају амебне 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цес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Picture 7" descr="image006"/>
          <p:cNvPicPr/>
          <p:nvPr/>
        </p:nvPicPr>
        <p:blipFill>
          <a:blip r:embed="rId1"/>
          <a:stretch/>
        </p:blipFill>
        <p:spPr>
          <a:xfrm>
            <a:off x="250920" y="765000"/>
            <a:ext cx="446724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6C75-6DBA-4349-B874-152D3107E83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4" descr="entah1"/>
          <p:cNvPicPr/>
          <p:nvPr/>
        </p:nvPicPr>
        <p:blipFill>
          <a:blip r:embed="rId1"/>
          <a:stretch/>
        </p:blipFill>
        <p:spPr>
          <a:xfrm>
            <a:off x="1692360" y="1413000"/>
            <a:ext cx="626436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620E-8B5B-4D57-B47F-455DC123E5B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332000" y="54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линичка сли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58920" y="2060640"/>
            <a:ext cx="70563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Инкубација код амебијазе је варијабилн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ијаза клинички може да се манифестује у више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симптоматск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кутна интестинална амебијаза (амебна дизентерија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ронична интестиналн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кстраинтестиналн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5A75-42A3-49A0-BA39-0651A58AFDD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187280" y="62064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АКУТНА ИНТЕСТИНАЛНА АМЕБИЈАЗА (АМЕБНА ДИЗЕНТЕРИЈА)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042920" y="2060640"/>
            <a:ext cx="7921800" cy="40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тка у нашем поднебљ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Симптом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 болови у трбуху, учестале слузаво-крваве столице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"ректални испљувак"), тенезни и лажни позиви на столиц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 разлику од бациларне дизентерије, код амебне дизентерије нису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јаче испољени знаци фебрилности, дехридације и интоксикације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0625-A5C7-47F1-8343-371F9AF8E66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332000" y="5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ом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п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ликациј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900000" y="1916280"/>
            <a:ext cx="813600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форација са последичним перитонитисо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тено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оми (хроничне грануломатозне пролиферације у цревном зиду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р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ње (најчешћ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но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кстраинтестинална амебијаза (хепатитич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, церебрална, перитонеална, ...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F83A-5733-477D-B5D3-280D575411A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258920" y="188280"/>
            <a:ext cx="216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7" descr="P_malariae_schizont4"/>
          <p:cNvPicPr/>
          <p:nvPr/>
        </p:nvPicPr>
        <p:blipFill>
          <a:blip r:embed="rId1"/>
          <a:srcRect l="0" t="14399" r="0" b="0"/>
          <a:stretch/>
        </p:blipFill>
        <p:spPr>
          <a:xfrm>
            <a:off x="5940360" y="1052640"/>
            <a:ext cx="2160720" cy="1654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5747400" y="285264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malaria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kvart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0" descr="Plasmodium_vivax"/>
          <p:cNvPicPr/>
          <p:nvPr/>
        </p:nvPicPr>
        <p:blipFill>
          <a:blip r:embed="rId2"/>
          <a:stretch/>
        </p:blipFill>
        <p:spPr>
          <a:xfrm>
            <a:off x="1763640" y="1052640"/>
            <a:ext cx="2163960" cy="1697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1"/>
          <p:cNvSpPr/>
          <p:nvPr/>
        </p:nvSpPr>
        <p:spPr>
          <a:xfrm>
            <a:off x="1646640" y="2924280"/>
            <a:ext cx="25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vivax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terci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3" descr="ovale"/>
          <p:cNvPicPr/>
          <p:nvPr/>
        </p:nvPicPr>
        <p:blipFill>
          <a:blip r:embed="rId3"/>
          <a:srcRect l="0" t="3055" r="0" b="13823"/>
          <a:stretch/>
        </p:blipFill>
        <p:spPr>
          <a:xfrm>
            <a:off x="1835280" y="3860640"/>
            <a:ext cx="2158920" cy="1727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4"/>
          <p:cNvSpPr/>
          <p:nvPr/>
        </p:nvSpPr>
        <p:spPr>
          <a:xfrm>
            <a:off x="1795320" y="5661000"/>
            <a:ext cx="22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oval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ov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6" descr="winzeler02"/>
          <p:cNvPicPr/>
          <p:nvPr/>
        </p:nvPicPr>
        <p:blipFill>
          <a:blip r:embed="rId4"/>
          <a:srcRect l="18430" t="18250" r="7787" b="0"/>
          <a:stretch/>
        </p:blipFill>
        <p:spPr>
          <a:xfrm>
            <a:off x="5940360" y="3860640"/>
            <a:ext cx="2160720" cy="1729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5753160" y="5661000"/>
            <a:ext cx="26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falciparum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tropi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2125-BC59-491B-BF77-DEB70E4C2F3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187280" y="54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071720" y="1785960"/>
            <a:ext cx="7777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иничка слик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икробиолошка испитивањ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иректан микроскопски преглед препарата столиц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ултивисање столице на Leffler-Симићевој подлоз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еролошке реакције (RVK, RIH, ELISA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олекуларна метода (PC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ктоскопски преглед са биопсијом слузнице (ради хистолошког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регледа слузнице на трофозоите!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1A03-B055-4138-8D52-3D4591D4889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16000" y="476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Терап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094040" y="126756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99"/>
                </a:solidFill>
                <a:latin typeface="Tahoma"/>
              </a:rPr>
              <a:t>Подела амебицида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116000" y="2205000"/>
          <a:ext cx="7632720" cy="3095640"/>
        </p:xfrm>
        <a:graphic>
          <a:graphicData uri="http://schemas.openxmlformats.org/drawingml/2006/table">
            <a:tbl>
              <a:tblPr/>
              <a:tblGrid>
                <a:gridCol w="3392640"/>
                <a:gridCol w="424008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Луменалн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oksanid furoat, klefamid, paromomicin, teklozan, etofamid, dijodohidroksikvinolin, nitazoksanid, t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ikli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кивни или системск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etin, dihidroemetin, hlorokin, miltefosin, derivati arsena (karbazon i milib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шан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nitroimidazoli (metronidazol, ornidazol, tinidazo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E43D-E1EB-45AD-A3DF-8E8E8302980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971640" y="1844640"/>
            <a:ext cx="7848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симптоматски носиоци (луменални агенс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Јодокин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650 mg таб.) – доза: 3×650 mg/дан, 20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Паромомицин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500 mg/дан, 10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кутни колити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Метро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750 mg/дан, 10 дан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+ луменални аген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мебни апсцес јет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Један од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Метро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750 mg/дан, 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Ти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– доза: 2gr/дан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Ор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– доза: 2gr/дан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5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+ луменални аген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5" descr="images1"/>
          <p:cNvPicPr/>
          <p:nvPr/>
        </p:nvPicPr>
        <p:blipFill>
          <a:blip r:embed="rId1"/>
          <a:stretch/>
        </p:blipFill>
        <p:spPr>
          <a:xfrm>
            <a:off x="6372360" y="189000"/>
            <a:ext cx="2457360" cy="18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7EAA-5342-4EBB-A07B-1F5707D3537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900000" y="333360"/>
            <a:ext cx="7344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 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Лај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шманијаза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Leishmania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5" descr="img026"/>
          <p:cNvPicPr/>
          <p:nvPr/>
        </p:nvPicPr>
        <p:blipFill>
          <a:blip r:embed="rId1"/>
          <a:srcRect l="16926" t="27953" r="9845" b="5906"/>
          <a:stretch/>
        </p:blipFill>
        <p:spPr>
          <a:xfrm>
            <a:off x="1979640" y="2565360"/>
            <a:ext cx="568944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12A8-3FB2-4901-8DB2-A923341A966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042920" y="2205000"/>
            <a:ext cx="7850160" cy="284148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аза је хронично инфективно обољење које изазивају паразити из рода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eishmania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, а преносе инсекти из рода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Phlebotomus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линички се јавља у три облика: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висцерал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кож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мукозал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бли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40328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8042-23FC-4E2F-AA0D-36CDD454D90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476360" y="1125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042920" y="2276640"/>
            <a:ext cx="7993080" cy="35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е (род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Leishmania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фамилија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Trypanosomatidae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ласа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Mastigophora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ло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Protozoa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исцералну лајшманијазу изазивају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donovani, L. infantum i L. shagasi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утану лајшманијазу у </a:t>
            </a:r>
            <a:r>
              <a:rPr b="0" lang="sr-CS" sz="1800" spc="-1" strike="noStrike" u="sng">
                <a:solidFill>
                  <a:srgbClr val="ffffff"/>
                </a:solidFill>
                <a:uFillTx/>
                <a:latin typeface="Tahoma"/>
              </a:rPr>
              <a:t>старом свету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изазивају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tropica, L. infantum, L. major, L. eatiopic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утану и мукозалну лајшманијазу у </a:t>
            </a:r>
            <a:r>
              <a:rPr b="0" lang="sr-CS" sz="1800" spc="-1" strike="noStrike" u="sng">
                <a:solidFill>
                  <a:srgbClr val="ffffff"/>
                </a:solidFill>
                <a:uFillTx/>
                <a:latin typeface="Tahoma"/>
              </a:rPr>
              <a:t>новом свету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изазивају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mexicana, L. braziliensis, L. peruvana, L. guyanensis, L. amazonensis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2C7F-BF8A-48F9-B4D8-3E8BBBD0661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187280" y="333360"/>
            <a:ext cx="614052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јшманије се јављају у два морфолошка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promastigot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(leptomonans)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mastigot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221840" y="191628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Promastig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6" descr="img008"/>
          <p:cNvPicPr/>
          <p:nvPr/>
        </p:nvPicPr>
        <p:blipFill>
          <a:blip r:embed="rId1"/>
          <a:srcRect l="19300" t="32677" r="11014" b="7465"/>
          <a:stretch/>
        </p:blipFill>
        <p:spPr>
          <a:xfrm>
            <a:off x="539640" y="2847960"/>
            <a:ext cx="4032360" cy="2597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Ldon_trypomastigotes_Despo"/>
          <p:cNvPicPr/>
          <p:nvPr/>
        </p:nvPicPr>
        <p:blipFill>
          <a:blip r:embed="rId2"/>
          <a:stretch/>
        </p:blipFill>
        <p:spPr>
          <a:xfrm>
            <a:off x="5003640" y="2852640"/>
            <a:ext cx="3816360" cy="25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18F9-197C-4DBE-A698-FA87D45D453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362600" y="7650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Amastig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5" descr="Ldono_Zaiman-amastigot"/>
          <p:cNvPicPr/>
          <p:nvPr/>
        </p:nvPicPr>
        <p:blipFill>
          <a:blip r:embed="rId1"/>
          <a:stretch/>
        </p:blipFill>
        <p:spPr>
          <a:xfrm>
            <a:off x="5076720" y="2133720"/>
            <a:ext cx="3832200" cy="2554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Leishmaniasis-tropica,-amastigot"/>
          <p:cNvPicPr/>
          <p:nvPr/>
        </p:nvPicPr>
        <p:blipFill>
          <a:blip r:embed="rId2"/>
          <a:stretch/>
        </p:blipFill>
        <p:spPr>
          <a:xfrm>
            <a:off x="900000" y="2133720"/>
            <a:ext cx="396108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26C7-052B-49D5-9273-28057158EF7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285920" y="4287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928800" y="1428840"/>
            <a:ext cx="799308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зервоар инфекције су човек и разне врсте домаћих и дивљих животињ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најчешће преносе убодом инсекти из род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Phlebotomus,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ђе се може пренети трансфузијом крви и сексуалним контакт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6" descr="Flies"/>
          <p:cNvPicPr/>
          <p:nvPr/>
        </p:nvPicPr>
        <p:blipFill>
          <a:blip r:embed="rId1"/>
          <a:stretch/>
        </p:blipFill>
        <p:spPr>
          <a:xfrm>
            <a:off x="1258920" y="3716280"/>
            <a:ext cx="3240000" cy="2492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leish0705f1"/>
          <p:cNvPicPr/>
          <p:nvPr/>
        </p:nvPicPr>
        <p:blipFill>
          <a:blip r:embed="rId2"/>
          <a:srcRect l="9029" t="9712" r="3994" b="16238"/>
          <a:stretch/>
        </p:blipFill>
        <p:spPr>
          <a:xfrm>
            <a:off x="5003640" y="3716280"/>
            <a:ext cx="32403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8521-5E44-4E99-962D-93A90F37B21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971640" y="260280"/>
            <a:ext cx="8028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аза се најчешче јавља у тропским земљама Азије, Африке и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Јужне Америке, у Европи углавном око Средоземног мо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5" descr="world_map-dobra"/>
          <p:cNvPicPr/>
          <p:nvPr/>
        </p:nvPicPr>
        <p:blipFill>
          <a:blip r:embed="rId1"/>
          <a:stretch/>
        </p:blipFill>
        <p:spPr>
          <a:xfrm>
            <a:off x="1763640" y="148428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B8D7-89C1-4732-9058-ADBDC64EBD5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agambiae"/>
          <p:cNvPicPr/>
          <p:nvPr/>
        </p:nvPicPr>
        <p:blipFill>
          <a:blip r:embed="rId1"/>
          <a:stretch/>
        </p:blipFill>
        <p:spPr>
          <a:xfrm>
            <a:off x="1403280" y="1413000"/>
            <a:ext cx="3024360" cy="197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malaria3"/>
          <p:cNvPicPr/>
          <p:nvPr/>
        </p:nvPicPr>
        <p:blipFill>
          <a:blip r:embed="rId2"/>
          <a:stretch/>
        </p:blipFill>
        <p:spPr>
          <a:xfrm>
            <a:off x="5508720" y="3933720"/>
            <a:ext cx="3240000" cy="218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thumb-malaria_special"/>
          <p:cNvPicPr/>
          <p:nvPr/>
        </p:nvPicPr>
        <p:blipFill>
          <a:blip r:embed="rId3"/>
          <a:srcRect l="6557" t="0" r="9638" b="0"/>
          <a:stretch/>
        </p:blipFill>
        <p:spPr>
          <a:xfrm>
            <a:off x="1187280" y="3860640"/>
            <a:ext cx="367200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osquito2"/>
          <p:cNvPicPr/>
          <p:nvPr/>
        </p:nvPicPr>
        <p:blipFill>
          <a:blip r:embed="rId4"/>
          <a:stretch/>
        </p:blipFill>
        <p:spPr>
          <a:xfrm>
            <a:off x="5651640" y="1341360"/>
            <a:ext cx="2736720" cy="20210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1638720" y="54936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Anophe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455B-4DB5-42DE-86C6-86A674D66D1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042920" y="54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042920" y="1125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hlebotomine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promastigot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RES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amastigot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RES (лимфне жлезде, слезина, јетра, костна срж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6" name="Picture 6" descr="leish0705f2"/>
          <p:cNvPicPr/>
          <p:nvPr/>
        </p:nvPicPr>
        <p:blipFill>
          <a:blip r:embed="rId1"/>
          <a:srcRect l="4641" t="12567" r="4646" b="11332"/>
          <a:stretch/>
        </p:blipFill>
        <p:spPr>
          <a:xfrm>
            <a:off x="1547640" y="1916280"/>
            <a:ext cx="676944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254F-07EC-49A6-9065-CADEAE3E9D9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1162440" y="62064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1692360" y="2205000"/>
            <a:ext cx="5759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олест се испољава у три клиничка облика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висцерални,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кож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мукозал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FDA5-3991-450C-BC81-A1237A46B80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116000" y="981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Висцерална лајшманијаза (Kala Azar)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116000" y="2133720"/>
            <a:ext cx="777708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 варира од 3 дана до 8 месец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очиње постепено: повишена температура, знојење,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губитак апетита, малаксалост, мршављењ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изикални налаз: бледило коже и слузница, лимафаденопатија, спленомегалија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епатомегалија, интерстицијска пнеумонија, хеморагијски синдр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елечена висцерална лајшманијаза се завршава смрћу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ACE8-80CD-4429-A0B9-C71C4FEE158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Picture 4" descr="img026"/>
          <p:cNvPicPr/>
          <p:nvPr/>
        </p:nvPicPr>
        <p:blipFill>
          <a:blip r:embed="rId1"/>
          <a:srcRect l="16926" t="27953" r="11014" b="5906"/>
          <a:stretch/>
        </p:blipFill>
        <p:spPr>
          <a:xfrm>
            <a:off x="539640" y="1773360"/>
            <a:ext cx="5688000" cy="3916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KalaAzar_Zaiman"/>
          <p:cNvPicPr/>
          <p:nvPr/>
        </p:nvPicPr>
        <p:blipFill>
          <a:blip r:embed="rId2"/>
          <a:srcRect l="17670" t="0" r="22157" b="0"/>
          <a:stretch/>
        </p:blipFill>
        <p:spPr>
          <a:xfrm>
            <a:off x="6443640" y="333360"/>
            <a:ext cx="2449440" cy="61088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6"/>
          <p:cNvSpPr/>
          <p:nvPr/>
        </p:nvSpPr>
        <p:spPr>
          <a:xfrm>
            <a:off x="1470240" y="83664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Kala Az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839F-0FD0-4E38-A6BE-E538285B756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187280" y="90792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Кожна лајшманијаза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042920" y="1773360"/>
            <a:ext cx="7848720" cy="36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20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кубација варира од 2 недеље до неколико месец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омене се јављају на откривеним деловима тела: на месту убода се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ајпре јавља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макула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ја брзо прелази 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апул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 ова 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откожни чворић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ји може да се одржава месецима и да спонтано ишчезне или егзулцерише 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безболна улцерација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20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жне промене прати регионални лимафаденити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5C6E-79B3-4F2A-98C2-80956499AA1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Picture 4" descr="1455_f1"/>
          <p:cNvPicPr/>
          <p:nvPr/>
        </p:nvPicPr>
        <p:blipFill>
          <a:blip r:embed="rId1"/>
          <a:stretch/>
        </p:blipFill>
        <p:spPr>
          <a:xfrm>
            <a:off x="1332000" y="1004760"/>
            <a:ext cx="3311280" cy="2543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leishmaniasis"/>
          <p:cNvPicPr/>
          <p:nvPr/>
        </p:nvPicPr>
        <p:blipFill>
          <a:blip r:embed="rId2"/>
          <a:stretch/>
        </p:blipFill>
        <p:spPr>
          <a:xfrm>
            <a:off x="5076720" y="1039680"/>
            <a:ext cx="2735280" cy="24638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hand"/>
          <p:cNvPicPr/>
          <p:nvPr/>
        </p:nvPicPr>
        <p:blipFill>
          <a:blip r:embed="rId3"/>
          <a:stretch/>
        </p:blipFill>
        <p:spPr>
          <a:xfrm>
            <a:off x="1692360" y="3860640"/>
            <a:ext cx="2592360" cy="2349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img041"/>
          <p:cNvPicPr/>
          <p:nvPr/>
        </p:nvPicPr>
        <p:blipFill>
          <a:blip r:embed="rId4"/>
          <a:srcRect l="15756" t="26394" r="7477" b="5906"/>
          <a:stretch/>
        </p:blipFill>
        <p:spPr>
          <a:xfrm>
            <a:off x="4788000" y="3860640"/>
            <a:ext cx="3600360" cy="23814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8"/>
          <p:cNvSpPr/>
          <p:nvPr/>
        </p:nvSpPr>
        <p:spPr>
          <a:xfrm>
            <a:off x="1502280" y="47628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Кожна лајшманиј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2A98-4F52-45AF-B19F-F21C7843788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411200" y="47628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Дифузна кутана лајшманиј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Picture 5" descr="difuzna kutana"/>
          <p:cNvPicPr/>
          <p:nvPr/>
        </p:nvPicPr>
        <p:blipFill>
          <a:blip r:embed="rId1"/>
          <a:srcRect l="18101" t="26165" r="13388" b="9031"/>
          <a:stretch/>
        </p:blipFill>
        <p:spPr>
          <a:xfrm>
            <a:off x="1403280" y="1268280"/>
            <a:ext cx="6553440" cy="466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2BBA-DB2E-4154-A7D8-4D7CDA4813F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1258920" y="3333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Мукозална лајшманија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971640" y="907920"/>
            <a:ext cx="79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арактерише се опсежним, деструктивним променама на слузници носа, уста, фаринкса или ларинкса (локални деформитети)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2" name="Picture 6" descr="lei20"/>
          <p:cNvPicPr/>
          <p:nvPr/>
        </p:nvPicPr>
        <p:blipFill>
          <a:blip r:embed="rId1"/>
          <a:stretch/>
        </p:blipFill>
        <p:spPr>
          <a:xfrm>
            <a:off x="4427640" y="1916280"/>
            <a:ext cx="3240000" cy="2187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abb05_s"/>
          <p:cNvPicPr/>
          <p:nvPr/>
        </p:nvPicPr>
        <p:blipFill>
          <a:blip r:embed="rId2"/>
          <a:stretch/>
        </p:blipFill>
        <p:spPr>
          <a:xfrm>
            <a:off x="1187280" y="2276640"/>
            <a:ext cx="2651400" cy="4032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img043"/>
          <p:cNvPicPr/>
          <p:nvPr/>
        </p:nvPicPr>
        <p:blipFill>
          <a:blip r:embed="rId3"/>
          <a:srcRect l="16926" t="27953" r="6301" b="5906"/>
          <a:stretch/>
        </p:blipFill>
        <p:spPr>
          <a:xfrm>
            <a:off x="4427640" y="4365720"/>
            <a:ext cx="324000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112A-99E4-472E-8CD5-643A8442CCF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688040" y="76392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692360" y="2133720"/>
            <a:ext cx="475128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ијагноза се поставља на основу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Клиничке слик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Епидемиолошких података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Лабораторијских анали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2FBD-9C1D-47DE-8B6D-7C4AE06B33E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434600" y="534240"/>
            <a:ext cx="40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Лабораторијска дијагнос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1343520" y="14122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Хематолош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1186560" y="3789720"/>
            <a:ext cx="4500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ипоалбуминемиј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ипергамаглобулинемиј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вишена активност трансаминаз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1200960" y="2059920"/>
            <a:ext cx="705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анцитопенија (анемија, леукопенија, тромбоцитопенија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1332360" y="328392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Биохемијс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0990-59D1-4BEE-BC39-D5A3B0F020B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476360" y="98100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Животни циклус плазмодију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2133720"/>
            <a:ext cx="475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  Асексуални циклус ("шизогонија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ре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гзо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I Сексуални циклус ("спорогонија"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cyclustext"/>
          <p:cNvPicPr/>
          <p:nvPr/>
        </p:nvPicPr>
        <p:blipFill>
          <a:blip r:embed="rId1"/>
          <a:stretch/>
        </p:blipFill>
        <p:spPr>
          <a:xfrm>
            <a:off x="5508720" y="1557360"/>
            <a:ext cx="34718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0B15-B2CA-4C74-9A8E-234B18A3712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332000" y="1197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Етиолошка 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187280" y="2060640"/>
            <a:ext cx="7488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дентификација узрочника у ткиву, најчешће костној сржи (микроскопски преглед пунктат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золација узрочника из крви, костне сржи и других ткива (култивисање на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NNN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подлогам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оказивање специфичних антитела на лајшманиј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(IF, ELISA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оказивање паразитн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DNK (PCR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498A-25BF-443E-9BC0-D202FF603B8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8" name="Picture 4" descr="amastigot - koza"/>
          <p:cNvPicPr/>
          <p:nvPr/>
        </p:nvPicPr>
        <p:blipFill>
          <a:blip r:embed="rId1"/>
          <a:srcRect l="16926" t="29520" r="19300" b="5906"/>
          <a:stretch/>
        </p:blipFill>
        <p:spPr>
          <a:xfrm>
            <a:off x="1763640" y="1700280"/>
            <a:ext cx="5400720" cy="41022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5"/>
          <p:cNvSpPr/>
          <p:nvPr/>
        </p:nvSpPr>
        <p:spPr>
          <a:xfrm>
            <a:off x="1589760" y="90792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Амастигот у биоптату кож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FCBC-2D52-47B2-8F38-47FEB74615D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695240" y="50364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163880" y="1412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Антипаразитарна терапија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332000" y="1916280"/>
            <a:ext cx="3095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нтимонски препара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роматични диамидин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мфотерицин 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000440" y="364428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Симптоматско-супституциона терапија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1258920" y="4221000"/>
            <a:ext cx="678816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ечење анемије (трансфузије крви, гвожђе, витамин Б12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ечење хипопротеинемије (20% албумини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висококалоријска исхран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6" name="Picture 9" descr="ico_pills"/>
          <p:cNvPicPr/>
          <p:nvPr/>
        </p:nvPicPr>
        <p:blipFill>
          <a:blip r:embed="rId1"/>
          <a:stretch/>
        </p:blipFill>
        <p:spPr>
          <a:xfrm>
            <a:off x="5867280" y="620640"/>
            <a:ext cx="2417760" cy="3313080"/>
          </a:xfrm>
          <a:prstGeom prst="rect">
            <a:avLst/>
          </a:prstGeom>
          <a:ln w="0">
            <a:noFill/>
          </a:ln>
        </p:spPr>
      </p:pic>
      <p:pic>
        <p:nvPicPr>
          <p:cNvPr id="337" name="~PP705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3840" y="713880"/>
            <a:ext cx="892980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00"/>
                </a:solidFill>
                <a:latin typeface="Comic Sans MS"/>
              </a:rPr>
              <a:t>Инфективне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32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br>
              <a:rPr sz="3200"/>
            </a:br>
            <a:r>
              <a:rPr b="1" i="1" lang="sr-Latn-C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RS" sz="20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1" i="1" lang="sr-Latn-CS" sz="2000" spc="-1" strike="noStrike">
                <a:solidFill>
                  <a:srgbClr val="ffff00"/>
                </a:solidFill>
                <a:latin typeface="Comic Sans MS"/>
              </a:rPr>
              <a:t>Предавање –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r-Latn-CS" sz="3200" spc="-1" strike="noStrike">
                <a:solidFill>
                  <a:srgbClr val="ffff00"/>
                </a:solidFill>
                <a:latin typeface="Comic Sans MS"/>
              </a:rPr>
              <a:t>TOXOPLASMOSIS</a:t>
            </a:r>
            <a:r>
              <a:rPr b="1" i="1" lang="sr-RS" sz="3200" spc="-1" strike="noStrike">
                <a:solidFill>
                  <a:srgbClr val="ffff00"/>
                </a:solidFill>
                <a:latin typeface="Comic Sans MS"/>
              </a:rPr>
              <a:t>/ТОКСОПЛАЗМОЗ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ЕТИОЛОГИЈ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0880" y="2590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П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ротозоа-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OXOPLASMA GONDI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ТРОФОЗОИТ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achyzoi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ЦИСТ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bradyzoi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ocysta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инфективни облику цреву мач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Животни циклус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6632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ahoma"/>
              </a:rPr>
              <a:t>-Трофозоити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инфекција ћелија (све ћелије са једр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Потискивање једра на периферију-</a:t>
            </a:r>
            <a:r>
              <a:rPr b="0" lang="sr-RS" sz="2400" spc="-1" strike="noStrike">
                <a:solidFill>
                  <a:srgbClr val="ffff00"/>
                </a:solidFill>
                <a:latin typeface="Tahoma"/>
              </a:rPr>
              <a:t>псеудици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Прскање инфициране ћелије-инфекција наивних 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Услед развоја имуности-спречавање даљег развоја и умножавања трофозо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ahoma"/>
              </a:rPr>
              <a:t>Цистичне форме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(окружене опном)-латентна ф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Деоба трофозоита унутар цисте значајно спорија-</a:t>
            </a:r>
            <a:r>
              <a:rPr b="0" lang="sr-RS" sz="2400" spc="-1" strike="noStrike">
                <a:solidFill>
                  <a:srgbClr val="ffff00"/>
                </a:solidFill>
                <a:latin typeface="Tahoma"/>
              </a:rPr>
              <a:t>брадизоити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(инфективни облик-ЦНС, миокард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AEF1-89B5-42E6-B566-363FB46FD53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611280" y="836280"/>
            <a:ext cx="7999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ahoma"/>
              </a:rPr>
              <a:t>Ооциста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епител црева мачке (инфективни облик, спорозои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Излучивање у спољашњу средину-контамин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Инфекција људи→трофозоит→циста, псеудоци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Инфекција мачке-ооцисте, ткивни об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Црево мачке-ооциста→спорозоит→цревни епит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Шизонти→вретенасти мерозоити→запоседање нових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Неки од мерозоита→гаметоцити→гаме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Зигот→ооциста→спољашња сре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3DD7-3D58-48FA-A7C9-0051ADBE06A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484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8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Најраспрострањенија зооноза у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Преваленција ткивних циста у конзумном месу јако висока! (могу се наћи и у јајима, млеку-посебно козије, на поврћ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езервоар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чке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(1% мачака свуда у свету излучује ооцис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Бројне животиње-преносиоци ци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утеви ширењ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Конзумирање сировог, тј. термички необрађеног меса и органа (садрже цисте)-25% свињског и говеђег ме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42560" y="152712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Контаминирана вода, храна и руке (ооциста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Парентерална инфекција лабораторијских радника (акцидентал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Трансфузија крви и дерив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Трансплантација 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Трансплацентарни прено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Slide Number Placeholder 2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17D6-F943-4927-8FC6-24F3A3EF019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836640"/>
            <a:ext cx="75438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Умножавање на месту ула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Регионалне ЛГЛ→паразит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Инфекција осетљивих ћелија (жаришне некроз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Развој имунитета (до 3. недеље)→цисте (миокард, ЦНС, плућа, јетра, утерус, зид црева, слезина, око, мишићи, ЛГ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Цисте су неактивне целог живота у већине људи (најчешће)-асимтоматско цист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ahoma"/>
              </a:rPr>
              <a:t>Имуносупресија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(цитостатици, кортикостероиди, АИДС)→масивне некрозе (мозак, среце, плућ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C58B-860A-498B-98C1-F89E89D7B17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260D-037A-40D0-9169-E2454458EB3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7" descr="malariacycleBig"/>
          <p:cNvPicPr/>
          <p:nvPr/>
        </p:nvPicPr>
        <p:blipFill>
          <a:blip r:embed="rId1"/>
          <a:stretch/>
        </p:blipFill>
        <p:spPr>
          <a:xfrm>
            <a:off x="826920" y="836640"/>
            <a:ext cx="7921800" cy="5284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918360" y="26028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Животни циклус плазмодију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КЛИНИЧКА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СЛИК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0880" y="23320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ече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ксоплазмоз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унокомпетентних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ече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ксоплазмоз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унодефицијентних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генитал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ксоплазм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кулар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ксоплазм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ТЕЧЕНА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ТОКСОПЛАЗМОЗА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ОД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ИМУНОКОМПЕТЕНТНИХ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СОБ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9528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јчешћ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манифестн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иничк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80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90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лучајев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тиче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симптомат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енерализова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мфаденопатија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(лимфогландуларни облик)-доминира у вратној региј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Симптоми (благи или недостају): слабост, ноћно знојење, мијалгије, гушобоља, главобоља, субфебрилност, бол у трбуху (абдоминална лимфаденопат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Оспа, хепатоспленомегалија (понека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Ређе: дисеминовани облик, хориоретинитис (једнострани), менингоенцефалитис, хепатитис, миокардитис, пнеумо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Траје неколико месеци, бенигног је т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ТЕЧЕНА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ТОКСОПЛАЗМОЗА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ОД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ИМУНОДЕФИЦИЈЕНТНИХ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СОБ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09120" y="1628280"/>
            <a:ext cx="80010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жа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иничк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к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(најчешће код пацијената са АИДС-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ек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нс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иокард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неумо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иоз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Хориорети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Орх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ОНГЕНИТАЛНА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ТОКСОПЛАЗМОЗ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09120" y="1125360"/>
            <a:ext cx="807732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Акутна инфекција мајке у трудноћи (много ређе реактивација хроничне инфекције у трудница, услед жестоке имуносупрес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1. триместар→25% инфекција плода (спонтани побачај, смрт плода, генерализована болест новорођенч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2. и 3. семестар→50-65% инфекција плода (80% инфициране деце се рађа без симпто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ориоретинитис (обострани), слепило, епилепсија, психомоторна и ментална ретардација, анемија, иктерус, енцефалитис, микроцефалија, интракранијалне калцификације, пнеумо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јвећи број деце се рађа на изглед зд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рематурус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→знаци оштећења ока и ЦНС (у прва 3 месеца живо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Донешена дец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→лакша клиничка слика, у прва 2 месеца лимфаденопатија, хепатоспленомегалија (мада се може касније испољити оштећење ЦНС и очна симптоматологија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Slide Number Placeholder 2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4B9E-2F8C-4D7E-9423-0315E91C10C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3" name="~PP3279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КУЛАРНА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ТОКСОПЛАЗМОЗ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0880" y="2666880"/>
            <a:ext cx="822960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ст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нифест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гениталне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ксоплазм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есивн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кротизирајућ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тинитис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(обостра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штећење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лепи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Најчешће се испољава у 2. или 3. деценији жив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Диф.дг.: ТБЦ, сифилис, лепра, очна хистоплазм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1360" y="142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r>
              <a:rPr b="1" lang="sr-RS" sz="2400" spc="-1" strike="noStrike">
                <a:solidFill>
                  <a:srgbClr val="ffff00"/>
                </a:solidFill>
                <a:latin typeface="Tahoma"/>
              </a:rPr>
              <a:t> (није једноставна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28760" y="14997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ПИДЕМИОЛОШКИ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ЛИНИЧКИ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АЦИ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ИСУ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УЗДА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ИСТ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ТОЛОШКИ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ТЕРИЈАЛ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ојење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ултивисање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нокулација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етљивој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вотињи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 (најпоузданиј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СЕРОЛОГ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sr-R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SABIN-FELDMAN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ов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тест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r-Latn-RS" sz="2000" spc="-1" strike="noStrike">
                <a:solidFill>
                  <a:srgbClr val="ffffff"/>
                </a:solidFill>
                <a:latin typeface="Tahoma"/>
              </a:rPr>
              <a:t>dye test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, тест боје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-Реакција везивања комплем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-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т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ндиректне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унофлуоресценције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(IgM, Ig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ELISA (IgM, Ig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99640" y="-171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24000" y="1768320"/>
            <a:ext cx="81532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Благи облици (лимфогландуларни) код имунокопетентних→НЕ ТРЕБА ЛЕЧИТ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Висцералне манифестације (тешке) у имунокомпетентних→2-4 месе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Акутне форме у имунодефицитарних→6 месеци и ду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Хронични, латентни облици се не ле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ИРИМЕТАМИН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1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g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g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t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ку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1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том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0,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g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g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t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још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1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УЛФАДИАЗИН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100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g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g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/24h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ве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зе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20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на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(уз На-бикарбонат, тбог кристализације у урин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Л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ИСЕЛ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ВАМИЦИН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/2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ку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е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удно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ПИР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ИЦИН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(није погодан за лечење енцефалити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КСИТРОМИЦИН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,АЗИТРОМИЦИН, КЛАРИТРОМИЦ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КЛИНДАМИЦ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КОРТИКОСТЕРОИДИ-окуларни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ECF5-AF3C-45E5-9FED-03F3AAC9FF2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Труднице са акутном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пирамицин 3г/дневно-до краја трудно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кон 1. триместра→пириметамин, сулфадиазин (нарочито ако је потврђена дијагноза инфекције плода, пренатал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генитална инфекција, без клиничких симптома (након рођења)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Пириметамин 1мг/кг (свака 2 дана)+Сулфадиазин 100мг/кг (у две дозе)+Фолна кис. 5мг (на 2. дан)-21 д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Потом се наставља спирамицином или сулфадиазином до 6 месеци (ако нема знакова болести), а ако се развије кл. слика, до годину д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3FD3-9E35-4429-9642-45E7139D62C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1055-6AFF-476E-BE40-5ECE84A1BAE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F0000-012-001"/>
          <p:cNvPicPr/>
          <p:nvPr/>
        </p:nvPicPr>
        <p:blipFill>
          <a:blip r:embed="rId1"/>
          <a:srcRect l="0" t="0" r="0" b="6943"/>
          <a:stretch/>
        </p:blipFill>
        <p:spPr>
          <a:xfrm>
            <a:off x="2700360" y="189000"/>
            <a:ext cx="6264360" cy="6154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653760" y="62064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Животни циклус </a:t>
            </a:r>
            <a:br>
              <a:rPr sz="1800"/>
            </a:b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лазмодију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B55D-DFEB-4A03-B742-7187126A905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861840" y="1844640"/>
            <a:ext cx="828216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ИНФЕКЦИЈЕ И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ЗАЗВАНЕ РИКЕЦИЈАМА (RIKECIOZ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44F3-D18B-478B-A3B5-4EE87AAE19A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1142280" y="126756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ПЕГАВИ ТИФУС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(TYPHUS EXANTHEMATICU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187280" y="2133720"/>
            <a:ext cx="763272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егави тифус је акутна, неконтагиозна, инфективна болест која се клинички карактерише општим симптомима инфекције, симптомима енцефалитис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(тифозним стањем) и макулозном осп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зрочник болести је </a:t>
            </a:r>
            <a:r>
              <a:rPr b="0" i="1" lang="sr-Latn-CS" sz="1800" spc="-1" strike="noStrike">
                <a:solidFill>
                  <a:srgbClr val="ffff99"/>
                </a:solidFill>
                <a:latin typeface="Tahoma"/>
              </a:rPr>
              <a:t>Rickettsia prowazeki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ја се у сасушеном измету ваши може одржати више месец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E285-6775-4430-87C2-EF5AFB121E8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1042920" y="765000"/>
            <a:ext cx="79218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звор инфекције је болесник који болује од пегавца или Брил-Цинсерове болести (заразан је последња 2 до 3 дана инкубације и све време трајања фебрилности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 оболелог на здравог човека болест преноси бала вашк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(Pediculus humanis corporis)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која се зарази сишући крв болес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1" name="Picture 3" descr="Piojo_de_la_ropa_Pediculus_humanos_corporis"/>
          <p:cNvPicPr/>
          <p:nvPr/>
        </p:nvPicPr>
        <p:blipFill>
          <a:blip r:embed="rId1"/>
          <a:stretch/>
        </p:blipFill>
        <p:spPr>
          <a:xfrm>
            <a:off x="1116000" y="3357720"/>
            <a:ext cx="3527280" cy="3201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foto_025"/>
          <p:cNvPicPr/>
          <p:nvPr/>
        </p:nvPicPr>
        <p:blipFill>
          <a:blip r:embed="rId2"/>
          <a:stretch/>
        </p:blipFill>
        <p:spPr>
          <a:xfrm>
            <a:off x="5508720" y="3357720"/>
            <a:ext cx="2131920" cy="30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14C7-AEDE-42D5-BE9B-8DBFC43E8EF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258920" y="1773360"/>
            <a:ext cx="727236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8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рикеција се настањује и размножава у епителним ћелијама црева, одакле столицом доспева у спољну средин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8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човек се инфицира утрљавањем измета у кожу (чешањем), ређе утрљавањем у коњунктив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8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олест се јавља епидемично, у животним ситуацијама лоших санитарних услова када је вашљив велики број људ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2FBE-5A80-402F-8FA3-DA830226713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1042920" y="1268280"/>
            <a:ext cx="79218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икеције посебан афинитет показују к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ендотелним ћелијам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малих крвних судова (артериоле, капилари, венуле), где се размножавају, разарају ендотелне ћелије и доспевају у крвоток (рикецијем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оком рикецијемије настаје дисеминација узрочника до различитих ткива и органа у којима изазивају васкулитис; промене су најизраженије у кожи, мозгу, попречно-пругастој мускулатури, тестисима, срцу и бубрез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ко инфицираних крвних судова ствара се запаљенски инфилтрат (гранулом) састваљен од лимфоцита и моноцита (артериолитис грануломатоса, Френкелови чворићи); ови грануломи сужавају лумен малих крвних судова, што доводи до успоравања крвотока и појаве тромбо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D1E0-5CF6-4D5E-9583-111D56905B7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1258920" y="1125360"/>
            <a:ext cx="720072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 износи 1 до 2 недеље (просечно 12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ротиче кроз три стадијум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вазивни стадију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гзантематични (тифозни стадијум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конвалесцентни стадиј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017E-26A6-41BC-AA21-88F4AB7706D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1116000" y="1268280"/>
            <a:ext cx="777708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. Инвазивни стадиј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очиње нагло са оптим симптомима инфекције: високом температуром, дрхтавицом, главобољом, мијалгијама и артралгија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изикални налаз: лице је црвено и подбуло (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caput rubrum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), коњунктивална ињекција, језик је сув, обложен прљавосивим наслагама; на плућима бронхитични шушњев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ј стадијум траје 5 до 7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B6F8-CC26-4628-A8AB-2361E657F33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1116000" y="1268280"/>
            <a:ext cx="7850160" cy="54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б. Егзантематични стадијум (тифозни стадију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арактерише се појавом оспе, која избија у једном маху и која је најизраженија на флексорним странама руку и бочним деловима тела (оспа је макулозна, некада делимично петехијална, тј. никада све макуле не прелазе у петехиј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оком овог стадијума јављају се симптоми од стране CNS-а: пацијент је узнемирен, дезоријентисан, често агресиван са халуцинацијама или је миран, апатичан, у прострацији и ступору (тифозно стањ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огу бити присутни и знаци пнеумоније, миокардитиса, нефритис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пленомегалија је најизраженија почетком овог стадијума, касније нестај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ј стадијум траје 7 до 8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2E4A-AF72-495F-AD06-BF054777E73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1187280" y="1197000"/>
            <a:ext cx="76327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Реконвалесцентни стадиј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случају оздрављења опоравак је брз и без последи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омплика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стају услед тромбозе крвних судова (у било ком органу и на акрима у смислу гангрене) и бактеријске суперинфекциј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06B6-E657-45D1-A921-9F9CC3016EF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116000" y="1197000"/>
            <a:ext cx="6480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а сли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пидемиолошки подаци (вашљивост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бораторијске анализе (умерена леукоцитоз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58CC-E681-4BAE-BE6B-5827203A09B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oocysts"/>
          <p:cNvPicPr/>
          <p:nvPr/>
        </p:nvPicPr>
        <p:blipFill>
          <a:blip r:embed="rId1"/>
          <a:srcRect l="0" t="6140" r="0" b="39916"/>
          <a:stretch/>
        </p:blipFill>
        <p:spPr>
          <a:xfrm>
            <a:off x="2627280" y="3591000"/>
            <a:ext cx="4176720" cy="266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oocysts2"/>
          <p:cNvPicPr/>
          <p:nvPr/>
        </p:nvPicPr>
        <p:blipFill>
          <a:blip r:embed="rId2"/>
          <a:srcRect l="0" t="0" r="0" b="36183"/>
          <a:stretch/>
        </p:blipFill>
        <p:spPr>
          <a:xfrm>
            <a:off x="3348000" y="1052640"/>
            <a:ext cx="5400720" cy="2220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oocysts3"/>
          <p:cNvPicPr/>
          <p:nvPr/>
        </p:nvPicPr>
        <p:blipFill>
          <a:blip r:embed="rId3"/>
          <a:srcRect l="0" t="0" r="0" b="21856"/>
          <a:stretch/>
        </p:blipFill>
        <p:spPr>
          <a:xfrm>
            <a:off x="684360" y="1052640"/>
            <a:ext cx="2303280" cy="22208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1009440" y="4046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Ooc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5AEE-3171-4961-B569-EC3E0F5EC30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1042920" y="1197000"/>
            <a:ext cx="763272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Серолош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Weil-Felix-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 реакција аглутинације (proteus OX 19) – реакција је позитивна крајем прве и почетком друге недеље болести: дијагностички је значајан титар већи од 1:160, али је важнији четвороструки пораст титра антитела у два узорка серу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реакција везивања комплемент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RVK) са специфичним рикецијским антигеном, касније постаје позитивна, око 10 дана болести, а за дијагностичку динамику титра треба чекати бар три недељ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индиректна имунофлуоресценциј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IIF) и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имуноензимски тест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ELISA) за откривање антитела на рикецију у IgM и IgG клас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421C-9A5C-46C1-9680-9348C01C48E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1258920" y="1052640"/>
            <a:ext cx="74898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етрациклини (доксициклин 2x100mg)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24-48 сати након губитка фебрил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лорамфеникол (30mg/kg у 4 једнаке доз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имптоматска терапи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рофилак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рба против вашљивости (депедикулац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стоји вакцина од атенуиране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R. prowazeki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77F3-DD7D-484C-B4E2-B10CC78438D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1455120" y="89280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BRIL – ZINSSEROVA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sr-CS" sz="2000" spc="-1" strike="noStrike">
                <a:solidFill>
                  <a:srgbClr val="ffff00"/>
                </a:solidFill>
                <a:latin typeface="Tahoma"/>
              </a:rPr>
              <a:t>БОЛ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1258920" y="2205000"/>
            <a:ext cx="7489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рил-Цинсерова болест је касни рецидив пегавца, а јавља се више година након прележане боле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F3CD-D817-4ECD-8C54-F500E551A35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1187280" y="1052640"/>
            <a:ext cx="75614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 и 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8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се јавља спорадично у свим крајевима света у којима је накада било пегавца или га још увек и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8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ник с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Brill-Zinsser-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во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болешћу може бити извор инфекције пегавца уколико истовремено постоји вашљиво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F1AC-8F60-46F5-A3A6-34593F6821C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116000" y="1197000"/>
            <a:ext cx="763272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кон прележаног пегавца, рикеције се задржавају у организму у латентном стању, а могу се активирати уколико ослабе имунске снаге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ротиче као лакши облик пегавца (траје 7-11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ACF8-0CC7-4B29-A35F-1584D80022B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1187280" y="1197000"/>
            <a:ext cx="756144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ст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VK (рано постаје позитивна - око 5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Brill-Zinsser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болест се лечи као и пегавац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7F80-DD28-445E-91C4-5EBCA48456F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1560240" y="691200"/>
            <a:ext cx="34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КЈУ  ГРОЗНИЦА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/ Q FE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1187280" y="2060640"/>
            <a:ext cx="7488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ју грозница (у англосаксонској литератури „Q fever“) је акутно инфективно обољење, које најчешће протиче под сликом атипичне пнеумониј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D373-E3DF-4122-A632-278137FFB92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116000" y="1052640"/>
            <a:ext cx="777708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7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зрочник болести је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Coxiella burnet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која припада породици рикец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7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сувој средини прави споре, тако да може да преживи више месеци у спољној среди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7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атогена је за људе, сматра се да је један микроорганизам довољан да изазове боле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D35A-BB6B-42E9-A919-253FA2A5A14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187280" y="1341360"/>
            <a:ext cx="7201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ју грозница је класична зооноза, извор инфекције су оболеле животиње (овце, говеда, козе) које излучују коксијелу столицом, мокраћом и млеком, нарочито током око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човек се углавом зарази удисањем прашине у којој се налазе рикеције, ређе конзумирањем млека или убодом зараженог крпеља (интерхумани пренос је реткост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се појављује спорадично или у епидемијама, најчешће у пролећ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63E8-D3F0-4CCA-85F8-73DCCB21356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1042920" y="1125360"/>
            <a:ext cx="785016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кон удисања контаминираног аеросол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C. burneti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доспева у плућа где се размножава у алвеоларним макрофагима; потом долази до продора у крв и њене дисеминације до различитих органа (системска болест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зрочник се осим у плућима може наћи у крви, плеуралном изливу, ликвору, перикарду, ендокарду, јетри, слезини и бубрег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лућни инфилтрати се првенствено налазе у интерстицијуму (састоје се од макрофага, лимфоцита и плазма ћелија), а сличне запаљенске промене, у облику грануломатозних жаришта се могу наћи и у другим органима као што су јетра, слезина, срце, мозак, тестиси и бубрез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Predrag Canovic</cp:lastModifiedBy>
  <dcterms:modified xsi:type="dcterms:W3CDTF">2023-02-02T23:12:54Z</dcterms:modified>
  <cp:revision>213</cp:revision>
  <dc:subject/>
  <dc:title>Slide 1</dc:title>
</cp:coreProperties>
</file>